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0EF-96A5-4C00-9B7D-7A55DBB7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A0E-86AF-452C-8251-F07639A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45C-3677-4B6E-B1AA-AFACC059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DAF-4074-433B-B3E7-A759F44A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D937-B50F-4EDD-B51E-02CCABCE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5CBF-7C7A-4BBB-9812-E435F2FD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794E-258B-4C4A-8AF7-1B498660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CF16-28CB-4356-B0C4-31ECB2E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A5F3-9823-4BC3-B06D-4747882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87D9-C504-4D1F-8568-36120B2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2880-EFA0-48B0-85B5-5C7AC49F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7EF-48E5-4632-94BD-55B81A76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8767-C7A1-48D1-A1C9-3C05FE7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E72-53E9-4031-88A2-95EAE7D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2E5C-C076-440D-9B46-8B5CB8AA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FFC7-F7F3-4BA3-A151-52FA990F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B9DB-2C98-4429-9B18-6751468F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E88-1E75-46F3-BFFC-E5DF4AED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AE7-776C-4B8A-BCFC-1A5F69B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EF3-7ECF-47AD-9720-DAAA50CC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FD2-7B31-4076-969B-3C5A458A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513-33A6-4F6B-9E1C-054A41EA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397-ACE4-4807-B055-396DFCB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D6C-1748-449C-AF93-331DEF0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883F-FBB1-4A6C-9810-D3C1915E7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034-D610-4E56-A7FF-C7FE6FF210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4371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333360"/>
            <a:ext cx="71294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51280" y="2637000"/>
            <a:ext cx="2736720" cy="10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GLOBAL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297200">
            <a:off x="468000" y="1699920"/>
            <a:ext cx="3760920" cy="1152360"/>
          </a:xfrm>
          <a:prstGeom prst="rightArrow">
            <a:avLst>
              <a:gd name="adj1" fmla="val 50000"/>
              <a:gd name="adj2" fmla="val 8159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dei mezzi di 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00000">
            <a:off x="453600" y="3852360"/>
            <a:ext cx="4127400" cy="1224000"/>
          </a:xfrm>
          <a:prstGeom prst="rightArrow">
            <a:avLst>
              <a:gd name="adj1" fmla="val 50000"/>
              <a:gd name="adj2" fmla="val 84301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zzi di 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89000"/>
            <a:ext cx="25207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iduzione dista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084720" y="1268280"/>
            <a:ext cx="21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427640" y="1196640"/>
            <a:ext cx="720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59280" y="189000"/>
            <a:ext cx="30607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Libera circol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di mer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7800" y="4365720"/>
            <a:ext cx="698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3573360"/>
            <a:ext cx="27003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bera circola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 pers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16720" y="2276640"/>
            <a:ext cx="360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1413000"/>
            <a:ext cx="22669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tili di vita sim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4797360"/>
            <a:ext cx="2449800" cy="843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Immigrazione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ittà multietn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3357720"/>
            <a:ext cx="7192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58Z</dcterms:created>
  <dc:creator>studente</dc:creator>
  <dc:description/>
  <dc:language>en-US</dc:language>
  <cp:lastModifiedBy>studente</cp:lastModifiedBy>
  <dcterms:modified xsi:type="dcterms:W3CDTF">2016-11-21T10:31:46Z</dcterms:modified>
  <cp:revision>4</cp:revision>
  <dc:subject/>
  <dc:title>Diapositiva 1</dc:title>
</cp:coreProperties>
</file>